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C4A-BB88-4162-A1C1-6E5F26D1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4A2E-5823-4D86-AB54-6D45145B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251-C8EF-4235-997D-01970F6B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8A78-608B-46CA-9665-83C1A3BE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384-4029-4A4F-9508-CFFBE1AD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506-84E1-4071-B824-1DB8FB04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85C4-199D-49D3-92BB-52C5D4A4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E411-2AE8-43AC-B7BB-34E72CCD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59D-02C6-488F-B992-1AE5BF8D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309F-C847-4EF9-BA20-4AF9C983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AA73-B7EF-4B0F-A689-40DE82AA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BD10-1F90-439C-9066-14E493AC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723E-C666-4FDF-92C7-C008CE825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ering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438280" y="1981080"/>
            <a:ext cx="43434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ig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743200" y="1371600"/>
            <a:ext cx="35434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ae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0195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erobic heterotrophic prokary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4724640" cy="39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286000" y="1219320"/>
            <a:ext cx="47181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tuguese Man O’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33447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merhead sh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68580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y Wh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586728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top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362320" y="1676520"/>
            <a:ext cx="4647960" cy="46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895480" y="1295280"/>
            <a:ext cx="3502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s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38280" y="1523880"/>
            <a:ext cx="428652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743200" y="1600200"/>
            <a:ext cx="370188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mpanz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556272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66200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47920" y="1295280"/>
            <a:ext cx="62960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 Tur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595296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nosau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46958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rseshoe Cr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655308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23880" y="1523880"/>
            <a:ext cx="61722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tle 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143000" y="1295280"/>
            <a:ext cx="70866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y Fi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01956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w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95280" y="1371600"/>
            <a:ext cx="66675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oly Mam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23924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ber-tooth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66294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v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371600"/>
            <a:ext cx="695340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phant S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523880" y="1676520"/>
            <a:ext cx="60199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tr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90920" y="1371600"/>
            <a:ext cx="39430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438280" y="1447920"/>
            <a:ext cx="383868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676520" y="1752480"/>
            <a:ext cx="548640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lam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95280" y="1295280"/>
            <a:ext cx="67532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43200" y="1295280"/>
            <a:ext cx="372420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19:45:14Z</dcterms:created>
  <dc:creator> </dc:creator>
  <dc:description/>
  <dc:language>en-US</dc:language>
  <cp:lastModifiedBy> </cp:lastModifiedBy>
  <dcterms:modified xsi:type="dcterms:W3CDTF">2007-03-15T20:04:42Z</dcterms:modified>
  <cp:revision>2</cp:revision>
  <dc:subject/>
  <dc:title>Flowering Plant</dc:title>
</cp:coreProperties>
</file>